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3DF-16DB-4245-A29B-4A26F383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3FF-772F-4EB8-AFAF-8B7C0170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F5F-D58C-40A1-B0AB-353D5572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2D3-71D5-438D-BDFB-219E1BF7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DA4-136A-4A75-B50A-5DD36E7B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E08-94BC-4DD4-85F3-89573969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E33-FACB-4A11-BADC-08A63442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EBD-74F5-4135-BAB2-668A2B8D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B9F-0133-4B1B-909B-E9C5A43B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08A-31B2-4102-9D5E-DCA6F6A9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1F5-477F-47F4-ABD8-3E54507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F7C-C239-4ECD-B2C8-8746029C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3F74-3FF2-4411-ABB0-88135A2EB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90600">
            <a:off x="1066680" y="533160"/>
            <a:ext cx="769644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V I I T O R U L    M E U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Î N C E P E     A Z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o-RO" sz="5400" spc="-1" strike="noStrike">
                <a:solidFill>
                  <a:srgbClr val="993300"/>
                </a:solidFill>
                <a:latin typeface="Century Gothic"/>
              </a:rPr>
              <a:t>DESENAŢI UN OBIECT </a:t>
            </a:r>
            <a:br>
              <a:rPr sz="5400"/>
            </a:br>
            <a:br>
              <a:rPr sz="5400"/>
            </a:br>
            <a:r>
              <a:rPr b="1" i="1" lang="ro-RO" sz="5400" spc="-1" strike="noStrike">
                <a:solidFill>
                  <a:srgbClr val="993300"/>
                </a:solidFill>
                <a:latin typeface="Century Gothic"/>
              </a:rPr>
              <a:t>SPECIFIC </a:t>
            </a:r>
            <a:br>
              <a:rPr sz="5400"/>
            </a:br>
            <a:br>
              <a:rPr sz="5400"/>
            </a:br>
            <a:r>
              <a:rPr b="1" i="1" lang="ro-RO" sz="5400" spc="-1" strike="noStrike">
                <a:solidFill>
                  <a:srgbClr val="993300"/>
                </a:solidFill>
                <a:latin typeface="Century Gothic"/>
              </a:rPr>
              <a:t>PROFESIEI ALE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1676520"/>
            <a:ext cx="76201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UNOAŞTEŢI PROFESIA COLEGULUI </a:t>
            </a:r>
            <a:endParaRPr b="0" lang="en-US" sz="3200" spc="1" strike="noStrike">
              <a:ln w="12600">
                <a:solidFill>
                  <a:srgbClr val="3333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UPĂ DESENUL EFECTUAT</a:t>
            </a:r>
            <a:endParaRPr b="0" lang="en-US" sz="3200" spc="1" strike="noStrike">
              <a:ln w="12600">
                <a:solidFill>
                  <a:srgbClr val="3333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600200"/>
            <a:ext cx="74678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redeţi că este alegerea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a mai bună?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38080" y="1066680"/>
            <a:ext cx="7620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-aţi gândit 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e condiţii sunt necesare 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entru alegerea  şi însuşirea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nei profesii ?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8640" y="457200"/>
            <a:ext cx="868536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33cc"/>
                </a:solidFill>
                <a:latin typeface="Arial"/>
              </a:rPr>
              <a:t>Condiţii fundamentale pentru orice profesi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REALIT</a:t>
            </a:r>
            <a:r>
              <a:rPr b="1" lang="ro-RO" sz="3200" spc="-1" strike="noStrike">
                <a:solidFill>
                  <a:srgbClr val="cc00cc"/>
                </a:solidFill>
                <a:latin typeface="Arial"/>
              </a:rPr>
              <a:t>ĂŢI ECONOMICO-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INSTRUIRE TEORETICĂ ŞI PRACTICĂ ÎN DIFERITE FORME DE ÎNVĂŢĂMÂ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INTERESE ŞI APTITUD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8288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cc"/>
                </a:solidFill>
                <a:latin typeface="Arial"/>
              </a:rPr>
              <a:t>REALITA</a:t>
            </a:r>
            <a:r>
              <a:rPr b="1" i="1" lang="ro-RO" sz="5400" spc="-1" strike="noStrike">
                <a:solidFill>
                  <a:srgbClr val="cc00cc"/>
                </a:solidFill>
                <a:latin typeface="Arial"/>
              </a:rPr>
              <a:t>Ţ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5400" spc="-1" strike="noStrike">
                <a:solidFill>
                  <a:srgbClr val="cc00cc"/>
                </a:solidFill>
                <a:latin typeface="Arial"/>
              </a:rPr>
              <a:t>ECONOMICO-SOCIA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03040"/>
            <a:ext cx="89154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660033"/>
                </a:solidFill>
                <a:latin typeface="Arial"/>
              </a:rPr>
              <a:t>Care sunt ramuri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660033"/>
                </a:solidFill>
                <a:latin typeface="Arial"/>
              </a:rPr>
              <a:t>economice principal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304920"/>
            <a:ext cx="67053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INDUST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TRANSPORT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COMERŢ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FINANŢE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AGRICUL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SERVICI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TURISM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7621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006600"/>
                </a:solidFill>
                <a:latin typeface="Comic Sans MS"/>
              </a:rPr>
              <a:t>ÎN CE CONST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006600"/>
                </a:solidFill>
                <a:latin typeface="Comic Sans MS"/>
              </a:rPr>
              <a:t>REALITATEA SOCIAL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17880" y="7365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57200"/>
            <a:ext cx="9144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763924"/>
                </a:solidFill>
                <a:latin typeface="Arial"/>
              </a:rPr>
              <a:t>PROFESI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009900"/>
                </a:solidFill>
                <a:latin typeface="Arial"/>
              </a:rPr>
              <a:t>DIN DIFERITE DOMENII DE ACTIVITATE: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 economie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învăţământ, cercetare, cultură, relig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14400" y="914400"/>
            <a:ext cx="70866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Cunoaşte-te pe tine însuţi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şi vei cunoaşte întreg universul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 toate forţele sale ascunse!"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1060200" y="5181480"/>
            <a:ext cx="64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Inscripţie pe frontonul templului din 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0666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990000"/>
                </a:solidFill>
                <a:latin typeface="Arial"/>
              </a:rPr>
              <a:t>INSTRU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60093"/>
                </a:solidFill>
                <a:latin typeface="Arial"/>
              </a:rPr>
              <a:t>TEORETICĂ ŞI PRACTICĂ</a:t>
            </a:r>
            <a:r>
              <a:rPr b="1" lang="ro-RO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990000"/>
                </a:solidFill>
                <a:latin typeface="Arial"/>
              </a:rPr>
              <a:t>ÎN DIFERI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d60093"/>
                </a:solidFill>
                <a:latin typeface="Arial"/>
              </a:rPr>
              <a:t>FORME DE ÎNVĂŢĂMÂNT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4360" y="457200"/>
            <a:ext cx="89996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3300"/>
                </a:solidFill>
                <a:latin typeface="Arial"/>
              </a:rPr>
              <a:t>ENUMERAŢI,</a:t>
            </a:r>
            <a:r>
              <a:rPr b="1" lang="ro-RO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66"/>
                </a:solidFill>
                <a:latin typeface="Arial"/>
              </a:rPr>
              <a:t>ORIENDÂNDU-VĂ DUPĂ PLANŞĂ,</a:t>
            </a:r>
            <a:r>
              <a:rPr b="1" lang="ro-RO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66"/>
                </a:solidFill>
                <a:latin typeface="Comic Sans MS"/>
              </a:rPr>
              <a:t>PAŞII NECESARI</a:t>
            </a:r>
            <a:r>
              <a:rPr b="1" lang="ro-RO" sz="4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ÎN DOBÂNDI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d60093"/>
                </a:solidFill>
                <a:latin typeface="Arial"/>
              </a:rPr>
              <a:t>PROFESIEI DO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-2286360"/>
            <a:ext cx="8534520" cy="9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9999"/>
                </a:solidFill>
                <a:latin typeface="Arial"/>
              </a:rPr>
              <a:t>INTERE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ff9900"/>
                </a:solidFill>
                <a:latin typeface="Arial"/>
              </a:rPr>
              <a:t>Ş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33cc"/>
                </a:solidFill>
                <a:latin typeface="Arial"/>
              </a:rPr>
              <a:t>APTITUDIN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80880"/>
            <a:ext cx="8686800" cy="75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5400" spc="-1" strike="noStrike">
                <a:solidFill>
                  <a:srgbClr val="ff3300"/>
                </a:solidFill>
                <a:latin typeface="Arial"/>
              </a:rPr>
              <a:t>Interesu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este orientarea conştientă către ceva: un lucru, o persoană, o profesie, adic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5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ro-RO" sz="5400" spc="-1" strike="noStrike">
                <a:solidFill>
                  <a:srgbClr val="ff3300"/>
                </a:solidFill>
                <a:latin typeface="Arial"/>
              </a:rPr>
              <a:t>ceea ce vreau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8380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838188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cc3300"/>
                </a:solidFill>
                <a:latin typeface="Arial"/>
              </a:rPr>
              <a:t>APTITUDINEA</a:t>
            </a:r>
            <a:r>
              <a:rPr b="0" lang="ro-RO" sz="5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este capacitatea de o realiza o activitate cu cel mai bun rezultat, adic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o-RO" sz="5400" spc="-1" strike="noStrike">
                <a:solidFill>
                  <a:srgbClr val="cc3300"/>
                </a:solidFill>
                <a:latin typeface="Arial"/>
              </a:rPr>
              <a:t>ceea ce pot</a:t>
            </a:r>
            <a:r>
              <a:rPr b="1" i="1" lang="ro-RO" sz="5400" spc="-1" strike="noStrike">
                <a:solidFill>
                  <a:srgbClr val="000000"/>
                </a:solidFill>
                <a:latin typeface="Arial"/>
              </a:rPr>
              <a:t> să fac cel mai bin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6600"/>
                </a:solidFill>
                <a:latin typeface="Arial"/>
              </a:rPr>
              <a:t>INTELIGENŢ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(ca aptitudine generală)</a:t>
            </a: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6000" spc="-1" strike="noStrike">
                <a:solidFill>
                  <a:srgbClr val="006600"/>
                </a:solidFill>
                <a:latin typeface="Arial"/>
              </a:rPr>
              <a:t>este capacitatea mintală de a rezolva corect şi rapid problemele noi</a:t>
            </a:r>
            <a:r>
              <a:rPr b="1" i="1" lang="ro-RO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3520" y="1447920"/>
            <a:ext cx="8610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LIGENŢELE MULTIPL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3087720" y="4495680"/>
            <a:ext cx="51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(după Gardne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7162560" cy="579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2133720"/>
            <a:ext cx="2895840" cy="228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NTELIGEN</a:t>
            </a: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ŢELE</a:t>
            </a:r>
            <a:r>
              <a:rPr b="1" lang="ro-RO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333760" y="914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904760" y="4038480"/>
            <a:ext cx="15238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85800"/>
            <a:ext cx="6098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4197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88620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29718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990720" y="2971800"/>
            <a:ext cx="21333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708120"/>
            <a:ext cx="21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Arial"/>
              </a:rPr>
              <a:t>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99"/>
                </a:solidFill>
                <a:latin typeface="Arial"/>
              </a:rPr>
              <a:t>lingvisti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8160" y="1752480"/>
            <a:ext cx="2139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66"/>
                </a:solidFill>
                <a:latin typeface="Arial"/>
              </a:rPr>
              <a:t>matematic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8040" y="1828800"/>
            <a:ext cx="209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Intr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Arial"/>
              </a:rPr>
              <a:t>person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960" y="3124080"/>
            <a:ext cx="209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0000"/>
                </a:solidFill>
                <a:latin typeface="Arial"/>
              </a:rPr>
              <a:t>Inte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0000"/>
                </a:solidFill>
                <a:latin typeface="Arial"/>
              </a:rPr>
              <a:t>person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960" y="457200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9900"/>
                </a:solidFill>
                <a:latin typeface="Arial"/>
              </a:rPr>
              <a:t>Muzic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4724280"/>
            <a:ext cx="21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cc"/>
                </a:solidFill>
                <a:latin typeface="Arial"/>
              </a:rPr>
              <a:t>Spaţi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4760" y="3200400"/>
            <a:ext cx="2297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9933"/>
                </a:solidFill>
                <a:latin typeface="Arial"/>
              </a:rPr>
              <a:t>Fiz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9933"/>
                </a:solidFill>
                <a:latin typeface="Arial"/>
              </a:rPr>
              <a:t>chinestezic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30204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cc00"/>
                </a:solidFill>
                <a:latin typeface="Arial"/>
              </a:rPr>
              <a:t>MINI</a:t>
            </a:r>
            <a:r>
              <a:rPr b="1" lang="fr-FR" sz="5400" spc="-1" strike="noStrike">
                <a:solidFill>
                  <a:srgbClr val="00cc00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66"/>
                </a:solidFill>
                <a:latin typeface="Arial"/>
              </a:rPr>
              <a:t>pentru identificare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993300"/>
                </a:solidFill>
                <a:latin typeface="Arial"/>
              </a:rPr>
              <a:t>tipului de inteligenţ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62485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7909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066680"/>
            <a:ext cx="86868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0033"/>
                </a:solidFill>
                <a:latin typeface="Arial Black"/>
              </a:rPr>
              <a:t>Elevii trebu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0033"/>
                </a:solidFill>
                <a:latin typeface="Comic Sans MS"/>
              </a:rPr>
              <a:t>O1 - să-şi formeze şi să-şi dezvol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0033"/>
                </a:solidFill>
                <a:latin typeface="Comic Sans MS"/>
              </a:rPr>
              <a:t>capacităţi de autocunaoştere pent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0033"/>
                </a:solidFill>
                <a:latin typeface="Comic Sans MS"/>
              </a:rPr>
              <a:t>a înţelege raportul dint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990033"/>
                </a:solidFill>
                <a:latin typeface="Comic Sans MS"/>
              </a:rPr>
              <a:t>“</a:t>
            </a:r>
            <a:r>
              <a:rPr b="1" i="1" lang="ro-RO" sz="3600" spc="-1" strike="noStrike">
                <a:solidFill>
                  <a:srgbClr val="990033"/>
                </a:solidFill>
                <a:latin typeface="Comic Sans MS"/>
              </a:rPr>
              <a:t>ce-mi place” şi “ce pot fac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3399"/>
                </a:solidFill>
                <a:latin typeface="Comic Sans MS"/>
              </a:rPr>
              <a:t>O2 - să manifeste interes faţă  de propriul vii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5050"/>
                </a:solidFill>
                <a:latin typeface="Comic Sans MS"/>
              </a:rPr>
              <a:t>O3 - să-şi aleagă o meserie potrivită în funcţie de interese, aptitudini şi reali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95480" y="380880"/>
            <a:ext cx="2800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BIECTIV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30456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00"/>
                </a:solidFill>
                <a:latin typeface="Arial"/>
              </a:rPr>
              <a:t>Repartizarea întrebărilor pe tipuri de inteligenţă: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Interpersonală:  întrebările 1 şi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- Intrapersonală: 3 şi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- Verbal – lingvistică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Logic-matematică: 6 şi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Spaţială: 8 şi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Fizic-chinestezică: 10 şi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Muzicală: 12 şi 13</a:t>
            </a:r>
            <a:r>
              <a:rPr b="1" i="1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66680" y="1523880"/>
            <a:ext cx="7010640" cy="354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ificarea activităţilor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în funcţie de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ligenţele multiple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48480" y="609480"/>
            <a:ext cx="6230880" cy="73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66"/>
                </a:solidFill>
                <a:latin typeface="Arial"/>
              </a:rPr>
              <a:t>Verbal –lingvistică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333399"/>
                </a:solidFill>
                <a:latin typeface="Arial"/>
              </a:rPr>
              <a:t>Creaţie şi receptivitate literar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990000"/>
                </a:solidFill>
                <a:latin typeface="Arial"/>
              </a:rPr>
              <a:t>Jurna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333399"/>
                </a:solidFill>
                <a:latin typeface="Arial"/>
              </a:rPr>
              <a:t>Repo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990000"/>
                </a:solidFill>
                <a:latin typeface="Arial"/>
              </a:rPr>
              <a:t>Scri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333399"/>
                </a:solidFill>
                <a:latin typeface="Arial"/>
              </a:rPr>
              <a:t>O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53352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9900"/>
                </a:solidFill>
                <a:latin typeface="Arial"/>
              </a:rPr>
              <a:t>2. Logic-matemat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cc3300"/>
                </a:solidFill>
                <a:latin typeface="Arial"/>
              </a:rPr>
              <a:t>Econom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ff0066"/>
                </a:solidFill>
                <a:latin typeface="Arial"/>
              </a:rPr>
              <a:t>Ingi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333399"/>
                </a:solidFill>
                <a:latin typeface="Arial"/>
              </a:rPr>
              <a:t>Om de afac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9320" y="914400"/>
            <a:ext cx="7086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3. Spaţial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333399"/>
                </a:solidFill>
                <a:latin typeface="Arial"/>
              </a:rPr>
              <a:t>Constru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ff5050"/>
                </a:solidFill>
                <a:latin typeface="Arial"/>
              </a:rPr>
              <a:t>Deco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9999"/>
                </a:solidFill>
                <a:latin typeface="Arial"/>
              </a:rPr>
              <a:t>Arhit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304920"/>
            <a:ext cx="7696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. Fizic-chinestez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i="1" lang="ro-RO" sz="4000" spc="-1" strike="noStrike">
                <a:solidFill>
                  <a:srgbClr val="009900"/>
                </a:solidFill>
                <a:latin typeface="Arial"/>
              </a:rPr>
              <a:t>discipline spor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Meserii:</a:t>
            </a:r>
            <a:r>
              <a:rPr b="1" i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şofer,</a:t>
            </a:r>
            <a:r>
              <a:rPr b="1" i="1" lang="ro-RO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996633"/>
                </a:solidFill>
                <a:latin typeface="Arial"/>
              </a:rPr>
              <a:t>marinar,</a:t>
            </a:r>
            <a:r>
              <a:rPr b="1" i="1" lang="ro-RO" sz="4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3399"/>
                </a:solidFill>
                <a:latin typeface="Arial"/>
              </a:rPr>
              <a:t>mecanic,</a:t>
            </a:r>
            <a:r>
              <a:rPr b="1" i="1" lang="ro-RO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ff3300"/>
                </a:solidFill>
                <a:latin typeface="Arial"/>
              </a:rPr>
              <a:t>agricul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533520"/>
            <a:ext cx="69343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ff"/>
                </a:solidFill>
                <a:latin typeface="Arial"/>
              </a:rPr>
              <a:t>5. Muzical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00"/>
                </a:solidFill>
                <a:latin typeface="Arial"/>
              </a:rPr>
              <a:t>Compoz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ff3300"/>
                </a:solidFill>
                <a:latin typeface="Arial"/>
              </a:rPr>
              <a:t>Interp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996633"/>
                </a:solidFill>
                <a:latin typeface="Arial"/>
              </a:rPr>
              <a:t>Dirij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12960" y="1461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74760"/>
            <a:ext cx="7925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996633"/>
                </a:solidFill>
                <a:latin typeface="Arial"/>
              </a:rPr>
              <a:t>6. Interpersonal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00ff"/>
                </a:solidFill>
                <a:latin typeface="Arial"/>
              </a:rPr>
              <a:t>Pri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3300"/>
                </a:solidFill>
                <a:latin typeface="Arial"/>
              </a:rPr>
              <a:t>Dir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66ff66"/>
                </a:solidFill>
                <a:latin typeface="Arial"/>
              </a:rPr>
              <a:t>Ambas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o-RO" sz="4000" spc="-1" strike="noStrike">
                <a:solidFill>
                  <a:srgbClr val="cc6600"/>
                </a:solidFill>
                <a:latin typeface="Arial"/>
              </a:rPr>
              <a:t>Minis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84400" y="907920"/>
            <a:ext cx="5097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993300"/>
                </a:solidFill>
                <a:latin typeface="Arial"/>
              </a:rPr>
              <a:t>7. Intrapersonal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cc6600"/>
                </a:solidFill>
                <a:latin typeface="Arial"/>
              </a:rPr>
              <a:t>Psiho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996633"/>
                </a:solidFill>
                <a:latin typeface="Arial"/>
              </a:rPr>
              <a:t>Pre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6600"/>
                </a:solidFill>
                <a:latin typeface="Arial"/>
              </a:rPr>
              <a:t>Profesor-dirig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676520"/>
            <a:ext cx="8458200" cy="25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ÎN    CONCLUZIE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0"/>
            <a:ext cx="8153280" cy="87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cc6600"/>
                </a:solidFill>
                <a:latin typeface="Arial"/>
              </a:rPr>
              <a:t>Alegeţi din această listă trei din cele mai importante realizări din viaţa unui om:</a:t>
            </a:r>
            <a:br>
              <a:rPr sz="3600"/>
            </a:br>
            <a:r>
              <a:rPr b="1" i="1" lang="ro-RO" sz="4400" spc="-1" strike="noStrike">
                <a:solidFill>
                  <a:srgbClr val="ff0000"/>
                </a:solidFill>
                <a:latin typeface="Arial"/>
              </a:rPr>
              <a:t>familia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ff9966"/>
                </a:solidFill>
                <a:latin typeface="Arial"/>
              </a:rPr>
              <a:t>funcţiile de con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333399"/>
                </a:solidFill>
                <a:latin typeface="Arial"/>
              </a:rPr>
              <a:t>prietenia </a:t>
            </a:r>
            <a:r>
              <a:rPr b="1" i="1" lang="ro-RO" sz="4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d60093"/>
                </a:solidFill>
                <a:latin typeface="Arial"/>
              </a:rPr>
              <a:t>călători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993300"/>
                </a:solidFill>
                <a:latin typeface="Arial"/>
              </a:rPr>
              <a:t>profe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339966"/>
                </a:solidFill>
                <a:latin typeface="Arial"/>
              </a:rPr>
              <a:t>ban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ff0000"/>
                </a:solidFill>
                <a:latin typeface="Arial"/>
              </a:rPr>
              <a:t>respectul semeni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383400">
            <a:off x="1001520" y="757080"/>
            <a:ext cx="7684920" cy="411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 uşor să-ţi alegi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ofesia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sh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762120"/>
            <a:ext cx="701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Arial Black"/>
              </a:rPr>
              <a:t>NU</a:t>
            </a: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990000"/>
                </a:solidFill>
                <a:latin typeface="Arial"/>
              </a:rPr>
              <a:t>pentru că intervi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cc0066"/>
                </a:solidFill>
                <a:latin typeface="Arial"/>
              </a:rPr>
              <a:t>mai mulţi factori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0320" y="228600"/>
            <a:ext cx="909324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5400" spc="-1" strike="noStrike">
                <a:solidFill>
                  <a:srgbClr val="ff0000"/>
                </a:solidFill>
                <a:latin typeface="Comic Sans MS"/>
              </a:rPr>
              <a:t>Factorii  economico-sociali</a:t>
            </a:r>
            <a:r>
              <a:rPr b="1" i="1" lang="ro-RO" sz="54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5400" spc="-1" strike="noStrike">
                <a:solidFill>
                  <a:srgbClr val="000099"/>
                </a:solidFill>
                <a:latin typeface="Comic Sans MS"/>
              </a:rPr>
              <a:t>Interesele şi aptitudin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5400" spc="-1" strike="noStrike">
                <a:solidFill>
                  <a:srgbClr val="cc3300"/>
                </a:solidFill>
                <a:latin typeface="Comic Sans MS"/>
              </a:rPr>
              <a:t>Şco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i="1" lang="ro-RO" sz="5400" spc="-1" strike="noStrike">
                <a:solidFill>
                  <a:srgbClr val="ff9900"/>
                </a:solidFill>
                <a:latin typeface="Comic Sans MS"/>
              </a:rPr>
              <a:t>Influenţa familie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i="1" lang="ro-RO" sz="4400" spc="-1" strike="noStrike">
                <a:solidFill>
                  <a:srgbClr val="009999"/>
                </a:solidFill>
                <a:latin typeface="Comic Sans MS"/>
              </a:rPr>
              <a:t>Satisfacţia dată de profe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i="1" lang="ro-RO" sz="5400" spc="-1" strike="noStrike">
                <a:solidFill>
                  <a:srgbClr val="990099"/>
                </a:solidFill>
                <a:latin typeface="Comic Sans MS"/>
              </a:rPr>
              <a:t>Condiţiile materia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buClr>
                <a:srgbClr val="99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3818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redeţi că alegerea profesie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ste definitivă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111960" y="0"/>
            <a:ext cx="9882720" cy="9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990099"/>
                </a:solidFill>
                <a:latin typeface="Comic Sans MS"/>
              </a:rPr>
              <a:t>Etapele alegerii profesiunii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(după Ginsbe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Comic Sans MS"/>
              </a:rPr>
              <a:t>Etapa fanteziei: </a:t>
            </a:r>
            <a:r>
              <a:rPr b="1" lang="ro-RO" sz="3600" spc="-1" strike="noStrike">
                <a:solidFill>
                  <a:srgbClr val="000000"/>
                </a:solidFill>
                <a:latin typeface="Comic Sans MS"/>
              </a:rPr>
              <a:t>6 – 11 a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Comic Sans MS"/>
              </a:rPr>
              <a:t>Etapa încercărilor: </a:t>
            </a: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12 – 18 ani</a:t>
            </a:r>
            <a:r>
              <a:rPr b="1" lang="ro-RO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buClr>
                <a:srgbClr val="99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o-RO" sz="3200" spc="-1" strike="noStrike">
                <a:solidFill>
                  <a:srgbClr val="990099"/>
                </a:solidFill>
                <a:latin typeface="Comic Sans MS"/>
              </a:rPr>
              <a:t>interesele şi aptitudin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omic Sans MS"/>
              </a:rPr>
              <a:t>3. Etapa realistă: după </a:t>
            </a: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18 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buClr>
                <a:srgbClr val="99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0099"/>
                </a:solidFill>
                <a:latin typeface="Comic Sans MS"/>
              </a:rPr>
              <a:t>acordul</a:t>
            </a: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 intereselor şi aptitudin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cu realităţile economico-socia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0000"/>
                </a:solidFill>
                <a:latin typeface="Comic Sans MS"/>
              </a:rPr>
              <a:t>ce vreau, ce pot şi ce este posib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66680" y="2133720"/>
            <a:ext cx="6934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MAGINI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REPREZENTÂND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IFERITE PROFESI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sh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1279440"/>
            <a:ext cx="4114800" cy="35179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9960" y="533520"/>
            <a:ext cx="561492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6102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17212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1066680"/>
            <a:ext cx="89632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re dintre acestea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ste esenţială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ntru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iitorul vostru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ircl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60560" y="762120"/>
            <a:ext cx="477504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71920" y="762120"/>
            <a:ext cx="314784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0" y="1576440"/>
            <a:ext cx="5257800" cy="31971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2320" y="1257480"/>
            <a:ext cx="4343400" cy="42703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0" y="1352520"/>
            <a:ext cx="4876920" cy="39067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6840" y="914400"/>
            <a:ext cx="354168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412596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92360" y="457200"/>
            <a:ext cx="54705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09480" y="685800"/>
            <a:ext cx="78487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"Înainte de a zice </a:t>
            </a:r>
            <a:endParaRPr b="1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i a începe ceva</a:t>
            </a:r>
            <a:endParaRPr b="1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1" lang="en-US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ândeşte-te  bine; </a:t>
            </a:r>
            <a:endParaRPr b="1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121932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7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 R O F E S I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-228600" y="457200"/>
            <a:ext cx="937260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ăci după ce ai zis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o vorbă ori ai început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o faptă nu mai este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în puterea ta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de a o mai lua înapoi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7000" y="5334120"/>
            <a:ext cx="59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Epictet,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ragm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10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08040" y="1143000"/>
            <a:ext cx="176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255680"/>
            <a:ext cx="26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76400" y="1523880"/>
            <a:ext cx="69912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E ÎNŢELEGEŢ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IN PROFESIE 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343800">
            <a:off x="1314000" y="1066320"/>
            <a:ext cx="600084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FESIE =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CUPAŢ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SER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ÎNDELETNICIRE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95280" y="762120"/>
            <a:ext cx="7010640" cy="429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V-aţi gândi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la viitoarea voastr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profesi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7:19:47Z</dcterms:created>
  <dc:creator>user</dc:creator>
  <dc:description/>
  <dc:language>en-US</dc:language>
  <cp:lastModifiedBy>vio</cp:lastModifiedBy>
  <dcterms:modified xsi:type="dcterms:W3CDTF">2007-04-26T13:51:23Z</dcterms:modified>
  <cp:revision>33</cp:revision>
  <dc:subject/>
  <dc:title>Diapozitivul 1</dc:title>
</cp:coreProperties>
</file>